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1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14.xml" ContentType="application/vnd.openxmlformats-officedocument.presentationml.slide+xml"/>
  <Override PartName="/ppt/slides/slide89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91EF6D-5092-4013-B2F0-12A7E43B6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C7765-0A7C-4881-B46C-E6490E5D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5031D2-EF8D-4AD8-9B70-F92F618D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C22472-298E-4970-AF92-72E1D5E9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E278A-ADB8-41DB-9EF2-C043B250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C4F591-F884-41D0-AC22-1067FAC7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08D42A-7300-4D8E-BF93-65682679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F6B28-2588-44AD-B68B-94C394ED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A07DC1-3310-436A-9127-A8518B52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24E2D4-F891-485B-8A88-34674F0C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1A659F-8478-43A6-95E8-C8ED0C983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A08352-D92D-470C-999D-F5880E00E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fb9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352680" y="6476760"/>
            <a:ext cx="5562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fb9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8C96-B8B9-457F-89D5-A86407369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5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ditionals and Loo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429000" y="2438280"/>
            <a:ext cx="5486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Software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ations of Program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AW logo"/>
          <p:cNvPicPr/>
          <p:nvPr/>
        </p:nvPicPr>
        <p:blipFill>
          <a:blip r:embed="rId1"/>
          <a:stretch/>
        </p:blipFill>
        <p:spPr>
          <a:xfrm>
            <a:off x="0" y="6064200"/>
            <a:ext cx="1060560" cy="7938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5181480" y="4836960"/>
            <a:ext cx="367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Lew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iam Lof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Untitled.png"/>
          <p:cNvPicPr/>
          <p:nvPr/>
        </p:nvPicPr>
        <p:blipFill>
          <a:blip r:embed="rId2"/>
          <a:stretch/>
        </p:blipFill>
        <p:spPr>
          <a:xfrm>
            <a:off x="304920" y="1828800"/>
            <a:ext cx="304776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609480" y="1835280"/>
            <a:ext cx="7910640" cy="240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You entered: " + ag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age &lt; MIN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Youth is a wonderful thing. Enjoy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ge is a state of mind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2758680" y="838080"/>
            <a:ext cx="3170520" cy="1522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Sample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your age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You entered: 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is a state of m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095200" y="3886200"/>
            <a:ext cx="4511880" cy="1766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Another Sample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your age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You entered: 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Youth is a wonderful thing. Enjo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is a state of mi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2541240" y="1450800"/>
            <a:ext cx="48852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lean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ing Event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 Boxes and Radio But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4"/>
          <p:cNvSpPr/>
          <p:nvPr/>
        </p:nvSpPr>
        <p:spPr>
          <a:xfrm>
            <a:off x="1676520" y="538164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ck Box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eck bo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button that can be toggled on or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represented by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CheckBo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ike a push button, which generates an action event, a check box generates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tem ev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ever it changes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temListe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erface is used to define item event liste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heck box call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temStateChang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of the listener when it is togg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ck Box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's examine a program that uses check boxes to determine the style of a label's text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use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, which embodies a character font'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y name (such as Times or Couri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yle (bold, italic, or b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StyleOptions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StyleOptionsPanel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5"/>
          <p:cNvSpPr/>
          <p:nvPr/>
        </p:nvSpPr>
        <p:spPr>
          <a:xfrm>
            <a:off x="547560" y="635040"/>
            <a:ext cx="7910640" cy="560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tyleOptions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check box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Fr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yle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and presents the program fr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fra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("Style Options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DefaultCloseOperation (JFrame.EXIT_ON_CLO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yleOptionsPanel panel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yleOptions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 (pane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5"/>
          <p:cNvSpPr/>
          <p:nvPr/>
        </p:nvSpPr>
        <p:spPr>
          <a:xfrm>
            <a:off x="547560" y="635040"/>
            <a:ext cx="7910640" cy="560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tyleOptions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check box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Fr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yle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and presents the program fr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fra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("Style Options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DefaultCloseOperation (JFrame.EXIT_ON_CLO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yleOptionsPanel panel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yleOptions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 (pane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7"/>
          <p:cNvGrpSpPr/>
          <p:nvPr/>
        </p:nvGrpSpPr>
        <p:grpSpPr>
          <a:xfrm>
            <a:off x="2514600" y="533520"/>
            <a:ext cx="4191120" cy="1904760"/>
            <a:chOff x="2514600" y="533520"/>
            <a:chExt cx="4191120" cy="1904760"/>
          </a:xfrm>
        </p:grpSpPr>
        <p:sp>
          <p:nvSpPr>
            <p:cNvPr id="451" name="TextBox 5"/>
            <p:cNvSpPr/>
            <p:nvPr/>
          </p:nvSpPr>
          <p:spPr>
            <a:xfrm>
              <a:off x="2514600" y="533520"/>
              <a:ext cx="4191120" cy="19047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2" name="Picture 6" descr="StyleOptions1.png"/>
            <p:cNvPicPr/>
            <p:nvPr/>
          </p:nvPicPr>
          <p:blipFill>
            <a:blip r:embed="rId1"/>
            <a:stretch/>
          </p:blipFill>
          <p:spPr>
            <a:xfrm>
              <a:off x="2705040" y="717480"/>
              <a:ext cx="3810240" cy="153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3" name="Group 12"/>
          <p:cNvGrpSpPr/>
          <p:nvPr/>
        </p:nvGrpSpPr>
        <p:grpSpPr>
          <a:xfrm>
            <a:off x="2514600" y="2914560"/>
            <a:ext cx="4191120" cy="1905120"/>
            <a:chOff x="2514600" y="2914560"/>
            <a:chExt cx="4191120" cy="1905120"/>
          </a:xfrm>
        </p:grpSpPr>
        <p:sp>
          <p:nvSpPr>
            <p:cNvPr id="454" name="TextBox 5"/>
            <p:cNvSpPr/>
            <p:nvPr/>
          </p:nvSpPr>
          <p:spPr>
            <a:xfrm>
              <a:off x="2514600" y="2914560"/>
              <a:ext cx="4191120" cy="1905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5" name="Picture 11" descr="StyleOptions2.png"/>
            <p:cNvPicPr/>
            <p:nvPr/>
          </p:nvPicPr>
          <p:blipFill>
            <a:blip r:embed="rId2"/>
            <a:stretch/>
          </p:blipFill>
          <p:spPr>
            <a:xfrm>
              <a:off x="2705040" y="3092400"/>
              <a:ext cx="3810240" cy="1549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5"/>
          <p:cNvSpPr/>
          <p:nvPr/>
        </p:nvSpPr>
        <p:spPr>
          <a:xfrm>
            <a:off x="609480" y="1152360"/>
            <a:ext cx="791064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tyleOptionsPanel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check box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even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yleOptionsPanel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xtend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saying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CheckBox bold, itali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5"/>
          <p:cNvSpPr/>
          <p:nvPr/>
        </p:nvSpPr>
        <p:spPr>
          <a:xfrm>
            <a:off x="609480" y="181080"/>
            <a:ext cx="7910640" cy="645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ets up a panel with a label and some check boxes th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ntrol the style of the label's fo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yleOptionsPanel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aying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("Say it with style!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aying.setFont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ont ("Helvetica", Font.PLAIN, 36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ld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CheckBox ("Bold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ld.setBackground (Color.cya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talic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CheckBox ("Italic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talic.setBackground (Color.cya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yleListener listener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yleListene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ld.addItemListener (listen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talic.addItemListener (listen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saying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ol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itali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Background (Color.cya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PreferredSize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mension(300, 100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5"/>
          <p:cNvSpPr/>
          <p:nvPr/>
        </p:nvSpPr>
        <p:spPr>
          <a:xfrm>
            <a:off x="609480" y="571680"/>
            <a:ext cx="7910640" cy="538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resents the listener for both check box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yleListener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l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temListe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Updates the style of the label font sty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temStateChanged (ItemEvent ev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yle = Font.PLAI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bold.isSelected(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yle = Font.BOL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italic.isSelected(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yle += Font.ITALI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aying.setFont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ont ("Helvetica", style, 36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dio Butt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roup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adio butt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presents a set of mutually exclusive options – only one can be selected at any give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radio button from a group is selected, the button that is currently "on" in the group is automatically toggled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fine the group of radio buttons that will work together, each radio button is added to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uttonGro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adio button generates an action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dio Butt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's look at a program that uses radio buttons to determine which line of text to dis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QuoteOptions.jav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QuoteOptionsPanel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ical Oper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lean expressions can also use the follow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gical opera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Logical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Logical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Logical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ll take boolean operands and produce boolean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al NOT is a unary operator (it operates on one opera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al AND and logical OR are binary operators (each operates on two operan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5"/>
          <p:cNvSpPr/>
          <p:nvPr/>
        </p:nvSpPr>
        <p:spPr>
          <a:xfrm>
            <a:off x="547560" y="635040"/>
            <a:ext cx="7910640" cy="560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QuoteOptions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radio butt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Fr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uote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and presents the program fr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fra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("Quote Options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DefaultCloseOperation (JFrame.EXIT_ON_CLO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uoteOptionsPanel panel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uoteOptions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 (pane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5"/>
          <p:cNvSpPr/>
          <p:nvPr/>
        </p:nvSpPr>
        <p:spPr>
          <a:xfrm>
            <a:off x="547560" y="635040"/>
            <a:ext cx="7910640" cy="560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QuoteOptions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radio butt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Fr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uote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and presents the program fr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fra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("Quote Options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DefaultCloseOperation (JFrame.EXIT_ON_CLO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uoteOptionsPanel panel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uoteOptions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 (pane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7"/>
          <p:cNvGrpSpPr/>
          <p:nvPr/>
        </p:nvGrpSpPr>
        <p:grpSpPr>
          <a:xfrm>
            <a:off x="2514600" y="533520"/>
            <a:ext cx="4191120" cy="1904760"/>
            <a:chOff x="2514600" y="533520"/>
            <a:chExt cx="4191120" cy="1904760"/>
          </a:xfrm>
        </p:grpSpPr>
        <p:sp>
          <p:nvSpPr>
            <p:cNvPr id="473" name="TextBox 5"/>
            <p:cNvSpPr/>
            <p:nvPr/>
          </p:nvSpPr>
          <p:spPr>
            <a:xfrm>
              <a:off x="2514600" y="533520"/>
              <a:ext cx="4191120" cy="19047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4" name="Picture 6" descr="QuoteOptions1.png"/>
            <p:cNvPicPr/>
            <p:nvPr/>
          </p:nvPicPr>
          <p:blipFill>
            <a:blip r:embed="rId1"/>
            <a:stretch/>
          </p:blipFill>
          <p:spPr>
            <a:xfrm>
              <a:off x="2721960" y="732600"/>
              <a:ext cx="3784680" cy="153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5" name="Group 12"/>
          <p:cNvGrpSpPr/>
          <p:nvPr/>
        </p:nvGrpSpPr>
        <p:grpSpPr>
          <a:xfrm>
            <a:off x="2514600" y="2925720"/>
            <a:ext cx="4191120" cy="1905120"/>
            <a:chOff x="2514600" y="2925720"/>
            <a:chExt cx="4191120" cy="1905120"/>
          </a:xfrm>
        </p:grpSpPr>
        <p:sp>
          <p:nvSpPr>
            <p:cNvPr id="476" name="TextBox 5"/>
            <p:cNvSpPr/>
            <p:nvPr/>
          </p:nvSpPr>
          <p:spPr>
            <a:xfrm>
              <a:off x="2514600" y="2925720"/>
              <a:ext cx="4191120" cy="1905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7" name="Picture 11" descr="QuoteOptions2.png"/>
            <p:cNvPicPr/>
            <p:nvPr/>
          </p:nvPicPr>
          <p:blipFill>
            <a:blip r:embed="rId2"/>
            <a:stretch/>
          </p:blipFill>
          <p:spPr>
            <a:xfrm>
              <a:off x="2705400" y="3102120"/>
              <a:ext cx="3797640" cy="1549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0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5"/>
          <p:cNvSpPr/>
          <p:nvPr/>
        </p:nvSpPr>
        <p:spPr>
          <a:xfrm>
            <a:off x="547560" y="61920"/>
            <a:ext cx="7910640" cy="66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QuoteOptionsPanel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radio butt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even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uoteOptionsPanel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xtend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quo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RadioButton comedy, philosophy, carpentr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comedyQuote, philosophyQuote, carpentryQuo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ets up a panel with a label and a set of radio butt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that control its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uoteOptionsPanel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dyQuote = "Take my wife, please.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hilosophyQuote = "I think, therefore I am.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rpentryQuote = "Measure twice. Cut once.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uot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(comedyQuo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uote.setFont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ont ("Helvetica", Font.BOLD, 24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5"/>
          <p:cNvSpPr/>
          <p:nvPr/>
        </p:nvSpPr>
        <p:spPr>
          <a:xfrm>
            <a:off x="547560" y="181080"/>
            <a:ext cx="7910640" cy="645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dy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RadioButton ("Comedy", tru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dy.setBackground (Color.gree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hilosophy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RadioButton ("Philosophy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hilosophy.setBackground (Color.gree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rpentry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RadioButton ("Carpentry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rpentry.setBackground (Color.gree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uttonGroup group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uttonGroup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oup.add (comedy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oup.add (philosophy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oup.add (carpentry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uoteListener listener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uoteListene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dy.addActionListener (listen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hilosophy.addActionListener (listen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rpentry.addActionListener (listen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quo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comedy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philosophy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carpentry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Background (Color.gree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PreferredSize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mension(300, 100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5"/>
          <p:cNvSpPr/>
          <p:nvPr/>
        </p:nvSpPr>
        <p:spPr>
          <a:xfrm>
            <a:off x="547560" y="585720"/>
            <a:ext cx="7910640" cy="560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resents the listener for all radio butt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uoteListener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l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tionListe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ets the text of the label depending on which rad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button was press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tionPerformed (ActionEvent ev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 source = event.getSourc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source == comed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uote.setText (comedyQuo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source == philosoph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uote.setText (philosophyQuo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uote.setText (carpentryQuo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5 focu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lean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f and if-else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ng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drawing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GUI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ical N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gical 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peration is also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gical neg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gical com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ome boolean conditio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rue, the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!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false;  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false, the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!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al expressions can be shown using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uth t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895480" y="4572000"/>
          <a:ext cx="2895840" cy="1371600"/>
        </p:xfrm>
        <a:graphic>
          <a:graphicData uri="http://schemas.openxmlformats.org/drawingml/2006/table">
            <a:tbl>
              <a:tblPr/>
              <a:tblGrid>
                <a:gridCol w="1449360"/>
                <a:gridCol w="14464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sh dir="l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ical AND and Logical 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gical 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 &amp;&amp;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36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rue if bo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true, and false otherw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gical 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 ||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rue 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both are true, and false otherw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ical AND and Logical 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ruth table shows all possible true-false combinations of the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ach have two operands, there are four possible combinations of condition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752480" y="3581280"/>
          <a:ext cx="5334120" cy="2286000"/>
        </p:xfrm>
        <a:graphic>
          <a:graphicData uri="http://schemas.openxmlformats.org/drawingml/2006/table">
            <a:tbl>
              <a:tblPr/>
              <a:tblGrid>
                <a:gridCol w="1067040"/>
                <a:gridCol w="1218960"/>
                <a:gridCol w="1524240"/>
                <a:gridCol w="15238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&amp;&amp;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||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sh dir="l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ical Oper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ions that use logical operators can form complex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total &lt; MAX+5 &amp;&amp; !fou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Processing…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logical operators have lower precedence than the relationa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perator has higher precedence th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&amp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|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oter Placeholder 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olean Expre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 expressions can be evaluated using truth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09480" y="2438280"/>
          <a:ext cx="7829640" cy="2203560"/>
        </p:xfrm>
        <a:graphic>
          <a:graphicData uri="http://schemas.openxmlformats.org/drawingml/2006/table">
            <a:tbl>
              <a:tblPr/>
              <a:tblGrid>
                <a:gridCol w="1839960"/>
                <a:gridCol w="1198800"/>
                <a:gridCol w="1277640"/>
                <a:gridCol w="35132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tal &lt; 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f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tal &lt; MAX &amp;&amp; !f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sh dir="l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ort-Circuited Oper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ing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&amp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||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“short-circuite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left operand is sufficient to determine the result, the right operand is not evalu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count != 0 &amp;&amp; total/count &gt; MA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esting.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type of processing should be used caref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ooter Placeholder 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2541240" y="1450800"/>
            <a:ext cx="48852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lean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ing Event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 Boxes and Radio But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1676520" y="208584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if Sta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's now look at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ment in more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f stat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the following synta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981880" y="4049640"/>
            <a:ext cx="31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 </a:t>
            </a:r>
            <a:r>
              <a:rPr b="1" i="1" lang="en-US" sz="2400" spc="-1" strike="noStrike">
                <a:solidFill>
                  <a:srgbClr val="008000"/>
                </a:solidFill>
                <a:latin typeface="Courier New"/>
              </a:rPr>
              <a:t>condi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2400" spc="-1" strike="noStrike">
                <a:solidFill>
                  <a:srgbClr val="008000"/>
                </a:solidFill>
                <a:latin typeface="Courier New"/>
              </a:rPr>
              <a:t>stateme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614520" y="3058200"/>
            <a:ext cx="2376720" cy="1053360"/>
            <a:chOff x="614520" y="3058200"/>
            <a:chExt cx="2376720" cy="1053360"/>
          </a:xfrm>
        </p:grpSpPr>
        <p:sp>
          <p:nvSpPr>
            <p:cNvPr id="145" name="Text Box 6"/>
            <p:cNvSpPr/>
            <p:nvPr/>
          </p:nvSpPr>
          <p:spPr>
            <a:xfrm>
              <a:off x="614520" y="3058200"/>
              <a:ext cx="237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if</a:t>
              </a:r>
              <a:r>
                <a:rPr b="1" lang="en-US" sz="2400" spc="-1" strike="noStrike">
                  <a:solidFill>
                    <a:srgbClr val="009999"/>
                  </a:solidFill>
                  <a:latin typeface="Arial Unicode MS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is a Ja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reserved wor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7"/>
            <p:cNvSpPr/>
            <p:nvPr/>
          </p:nvSpPr>
          <p:spPr>
            <a:xfrm>
              <a:off x="2355840" y="3882960"/>
              <a:ext cx="533520" cy="2286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14"/>
          <p:cNvGrpSpPr/>
          <p:nvPr/>
        </p:nvGrpSpPr>
        <p:grpSpPr>
          <a:xfrm>
            <a:off x="3548160" y="2068920"/>
            <a:ext cx="4381560" cy="1966320"/>
            <a:chOff x="3548160" y="2068920"/>
            <a:chExt cx="4381560" cy="1966320"/>
          </a:xfrm>
        </p:grpSpPr>
        <p:sp>
          <p:nvSpPr>
            <p:cNvPr id="148" name="Text Box 9"/>
            <p:cNvSpPr/>
            <p:nvPr/>
          </p:nvSpPr>
          <p:spPr>
            <a:xfrm>
              <a:off x="3548160" y="2068920"/>
              <a:ext cx="43815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Th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Courier New"/>
                </a:rPr>
                <a:t>condi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 must be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boolean expression. It mu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evaluate to either true or fals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0"/>
            <p:cNvSpPr/>
            <p:nvPr/>
          </p:nvSpPr>
          <p:spPr>
            <a:xfrm flipH="1">
              <a:off x="4535280" y="3578040"/>
              <a:ext cx="152280" cy="457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11"/>
          <p:cNvGrpSpPr/>
          <p:nvPr/>
        </p:nvGrpSpPr>
        <p:grpSpPr>
          <a:xfrm>
            <a:off x="840240" y="4950000"/>
            <a:ext cx="8078040" cy="1296000"/>
            <a:chOff x="840240" y="4950000"/>
            <a:chExt cx="8078040" cy="1296000"/>
          </a:xfrm>
        </p:grpSpPr>
        <p:sp>
          <p:nvSpPr>
            <p:cNvPr id="151" name="Text Box 12"/>
            <p:cNvSpPr/>
            <p:nvPr/>
          </p:nvSpPr>
          <p:spPr>
            <a:xfrm>
              <a:off x="840240" y="5420520"/>
              <a:ext cx="8078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If th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Courier New"/>
                </a:rPr>
                <a:t>condi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 is true, th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Courier New"/>
                </a:rPr>
                <a:t>statemen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 is execute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If it is false, th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Courier New"/>
                </a:rPr>
                <a:t>statemen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 is skippe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3"/>
            <p:cNvSpPr/>
            <p:nvPr/>
          </p:nvSpPr>
          <p:spPr>
            <a:xfrm flipV="1">
              <a:off x="4260960" y="4950000"/>
              <a:ext cx="0" cy="457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Footer Placeholder 1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ditionals and Loo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we will examine programming statements that allow u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processing steps in a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5 focuses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ean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f and if-else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l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drawing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GUI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ic of an if sta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3200400" y="1447560"/>
            <a:ext cx="2057400" cy="1752840"/>
            <a:chOff x="3200400" y="1447560"/>
            <a:chExt cx="2057400" cy="1752840"/>
          </a:xfrm>
        </p:grpSpPr>
        <p:sp>
          <p:nvSpPr>
            <p:cNvPr id="156" name="AutoShape 4"/>
            <p:cNvSpPr/>
            <p:nvPr/>
          </p:nvSpPr>
          <p:spPr>
            <a:xfrm>
              <a:off x="3200400" y="2133720"/>
              <a:ext cx="2057400" cy="1066680"/>
            </a:xfrm>
            <a:prstGeom prst="diamond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5"/>
            <p:cNvSpPr/>
            <p:nvPr/>
          </p:nvSpPr>
          <p:spPr>
            <a:xfrm>
              <a:off x="3566520" y="2329920"/>
              <a:ext cx="132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condi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evalua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8" name="AutoShape 6"/>
            <p:cNvCxnSpPr/>
            <p:nvPr/>
          </p:nvCxnSpPr>
          <p:spPr>
            <a:xfrm>
              <a:off x="4228920" y="1447560"/>
              <a:ext cx="1080" cy="68652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</p:grpSp>
      <p:cxnSp>
        <p:nvCxnSpPr>
          <p:cNvPr id="159" name="AutoShape 7"/>
          <p:cNvCxnSpPr/>
          <p:nvPr/>
        </p:nvCxnSpPr>
        <p:spPr>
          <a:xfrm>
            <a:off x="4228920" y="4403520"/>
            <a:ext cx="1080" cy="108180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lg"/>
          </a:ln>
        </p:spPr>
      </p:cxnSp>
      <p:grpSp>
        <p:nvGrpSpPr>
          <p:cNvPr id="160" name="Group 8"/>
          <p:cNvGrpSpPr/>
          <p:nvPr/>
        </p:nvGrpSpPr>
        <p:grpSpPr>
          <a:xfrm>
            <a:off x="3429000" y="3200400"/>
            <a:ext cx="1600200" cy="1217160"/>
            <a:chOff x="3429000" y="3200400"/>
            <a:chExt cx="1600200" cy="1217160"/>
          </a:xfrm>
        </p:grpSpPr>
        <p:sp>
          <p:nvSpPr>
            <p:cNvPr id="161" name="Rectangle 9"/>
            <p:cNvSpPr/>
            <p:nvPr/>
          </p:nvSpPr>
          <p:spPr>
            <a:xfrm>
              <a:off x="3429000" y="4036680"/>
              <a:ext cx="1600200" cy="3808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0"/>
            <p:cNvSpPr/>
            <p:nvPr/>
          </p:nvSpPr>
          <p:spPr>
            <a:xfrm>
              <a:off x="3541680" y="4035960"/>
              <a:ext cx="13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stat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" name="AutoShape 11"/>
            <p:cNvCxnSpPr>
              <a:stCxn id="156" idx="2"/>
              <a:endCxn id="161" idx="0"/>
            </p:cNvCxnSpPr>
            <p:nvPr/>
          </p:nvCxnSpPr>
          <p:spPr>
            <a:xfrm flipH="1">
              <a:off x="4226760" y="3200400"/>
              <a:ext cx="2520" cy="83880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  <p:sp>
          <p:nvSpPr>
            <p:cNvPr id="164" name="Text Box 12"/>
            <p:cNvSpPr/>
            <p:nvPr/>
          </p:nvSpPr>
          <p:spPr>
            <a:xfrm>
              <a:off x="4246560" y="3350160"/>
              <a:ext cx="66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 Unicode MS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16"/>
          <p:cNvGrpSpPr/>
          <p:nvPr/>
        </p:nvGrpSpPr>
        <p:grpSpPr>
          <a:xfrm>
            <a:off x="4266720" y="2666880"/>
            <a:ext cx="2090160" cy="2297160"/>
            <a:chOff x="4266720" y="2666880"/>
            <a:chExt cx="2090160" cy="2297160"/>
          </a:xfrm>
        </p:grpSpPr>
        <p:sp>
          <p:nvSpPr>
            <p:cNvPr id="166" name="Text Box 14"/>
            <p:cNvSpPr/>
            <p:nvPr/>
          </p:nvSpPr>
          <p:spPr>
            <a:xfrm>
              <a:off x="5628960" y="3656520"/>
              <a:ext cx="72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 Unicode MS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7" name="AutoShape 15"/>
            <p:cNvCxnSpPr/>
            <p:nvPr/>
          </p:nvCxnSpPr>
          <p:spPr>
            <a:xfrm flipH="1">
              <a:off x="4266720" y="2666880"/>
              <a:ext cx="991440" cy="2286720"/>
            </a:xfrm>
            <a:prstGeom prst="bentConnector4">
              <a:avLst>
                <a:gd name="adj1" fmla="val -33309"/>
                <a:gd name="adj2" fmla="val 100472"/>
              </a:avLst>
            </a:prstGeom>
            <a:ln w="31680">
              <a:solidFill>
                <a:srgbClr val="ff0000"/>
              </a:solidFill>
              <a:miter/>
            </a:ln>
          </p:spPr>
        </p:cxnSp>
      </p:grpSp>
      <p:sp>
        <p:nvSpPr>
          <p:cNvPr id="168" name="Footer Placeholder 1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ment controlled by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ment is indented to indicate that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se of a consistent indentation style makes a program easier to read and under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piler ignores indentation, which can lead to errors if the indentation is not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981080" y="4343400"/>
            <a:ext cx="5715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"Always code as if the person who ends up maintaining your code will be a violent psychopath who knows where you live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-- Martin Go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04920" y="106668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the following statements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1096920" y="1905120"/>
            <a:ext cx="585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total != stock + warehou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ventoryError = tru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6"/>
          <p:cNvSpPr/>
          <p:nvPr/>
        </p:nvSpPr>
        <p:spPr>
          <a:xfrm>
            <a:off x="1170360" y="4114800"/>
            <a:ext cx="530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found || !d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Ok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304920" y="106668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the following statements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6"/>
          <p:cNvSpPr/>
          <p:nvPr/>
        </p:nvSpPr>
        <p:spPr>
          <a:xfrm>
            <a:off x="1096920" y="1905120"/>
            <a:ext cx="585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total != stock + warehou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ventoryError = tru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6"/>
          <p:cNvSpPr/>
          <p:nvPr/>
        </p:nvSpPr>
        <p:spPr>
          <a:xfrm>
            <a:off x="1170360" y="4114800"/>
            <a:ext cx="530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found || !d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Ok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722520" y="2971800"/>
            <a:ext cx="746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Sets the boolean variable to true if the value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is not equal to the sum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o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arehou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6"/>
          <p:cNvSpPr/>
          <p:nvPr/>
        </p:nvSpPr>
        <p:spPr>
          <a:xfrm>
            <a:off x="686520" y="5257800"/>
            <a:ext cx="60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Prints "Ok" 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u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is true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is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if-else Sta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lse clau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added to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ment to make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f-else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 </a:t>
            </a:r>
            <a:r>
              <a:rPr b="1" i="1" lang="en-US" sz="2400" spc="-1" strike="noStrike">
                <a:solidFill>
                  <a:srgbClr val="008000"/>
                </a:solidFill>
                <a:latin typeface="Courier New"/>
              </a:rPr>
              <a:t>condi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2400" spc="-1" strike="noStrike">
                <a:solidFill>
                  <a:srgbClr val="008000"/>
                </a:solidFill>
                <a:latin typeface="Courier New"/>
              </a:rPr>
              <a:t>statement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2400" spc="-1" strike="noStrike">
                <a:solidFill>
                  <a:srgbClr val="008000"/>
                </a:solidFill>
                <a:latin typeface="Courier New"/>
              </a:rPr>
              <a:t>statement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ond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rue, </a:t>
            </a: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statement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executed;  if the condition is false, </a:t>
            </a: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statement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exec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r the other will be executed, but not b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Wages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609480" y="711360"/>
            <a:ext cx="7910640" cy="538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Wages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n if-else statem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text.NumberForma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util.Scann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ads the number of hours worked and calculates wag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inal dou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TE = 8.25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gular pay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inal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NDARD = 40;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ndard hours in a work we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sca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(System.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pay = 0.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"/>
          <p:cNvSpPr/>
          <p:nvPr/>
        </p:nvSpPr>
        <p:spPr>
          <a:xfrm>
            <a:off x="609480" y="1165320"/>
            <a:ext cx="7910640" cy="389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Enter the number of hours worked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hours = scan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ay overtime at "time and a half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hours &gt; STANDAR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y = STANDARD * RATE + (hours-STANDARD) * (RATE *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y = hours * RA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Format fmt = NumberFormat.getCurrencyInstanc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Gross earnings: " + fmt.format(pay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5"/>
          <p:cNvSpPr/>
          <p:nvPr/>
        </p:nvSpPr>
        <p:spPr>
          <a:xfrm>
            <a:off x="609480" y="1165320"/>
            <a:ext cx="7910640" cy="389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Enter the number of hours worked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hours = scan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ay overtime at "time and a half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hours &gt; STANDAR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y = STANDARD * RATE + (hours-STANDARD) * (RATE *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y = hours * RA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Format fmt = NumberFormat.getCurrencyInstanc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Gross earnings: " + fmt.format(pay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5"/>
          <p:cNvSpPr/>
          <p:nvPr/>
        </p:nvSpPr>
        <p:spPr>
          <a:xfrm>
            <a:off x="2231280" y="1066680"/>
            <a:ext cx="4755600" cy="1522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Sample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he number of hours worked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oss earnings: $404.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ic of an if-else sta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22"/>
          <p:cNvGrpSpPr/>
          <p:nvPr/>
        </p:nvGrpSpPr>
        <p:grpSpPr>
          <a:xfrm>
            <a:off x="3048120" y="1294920"/>
            <a:ext cx="2057400" cy="1752840"/>
            <a:chOff x="3048120" y="1294920"/>
            <a:chExt cx="2057400" cy="1752840"/>
          </a:xfrm>
        </p:grpSpPr>
        <p:sp>
          <p:nvSpPr>
            <p:cNvPr id="197" name="AutoShape 23"/>
            <p:cNvSpPr/>
            <p:nvPr/>
          </p:nvSpPr>
          <p:spPr>
            <a:xfrm>
              <a:off x="3048120" y="1981080"/>
              <a:ext cx="2057400" cy="1066680"/>
            </a:xfrm>
            <a:prstGeom prst="diamond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24"/>
            <p:cNvSpPr/>
            <p:nvPr/>
          </p:nvSpPr>
          <p:spPr>
            <a:xfrm>
              <a:off x="3414240" y="2177280"/>
              <a:ext cx="132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condi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evalua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9" name="AutoShape 25"/>
            <p:cNvCxnSpPr/>
            <p:nvPr/>
          </p:nvCxnSpPr>
          <p:spPr>
            <a:xfrm>
              <a:off x="4076640" y="1294920"/>
              <a:ext cx="1080" cy="68652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</p:grpSp>
      <p:cxnSp>
        <p:nvCxnSpPr>
          <p:cNvPr id="200" name="AutoShape 26"/>
          <p:cNvCxnSpPr/>
          <p:nvPr/>
        </p:nvCxnSpPr>
        <p:spPr>
          <a:xfrm>
            <a:off x="4076280" y="4328640"/>
            <a:ext cx="1080" cy="108180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lg"/>
          </a:ln>
        </p:spPr>
      </p:cxnSp>
      <p:grpSp>
        <p:nvGrpSpPr>
          <p:cNvPr id="201" name="Group 43"/>
          <p:cNvGrpSpPr/>
          <p:nvPr/>
        </p:nvGrpSpPr>
        <p:grpSpPr>
          <a:xfrm>
            <a:off x="3276720" y="3048120"/>
            <a:ext cx="1600200" cy="1295280"/>
            <a:chOff x="3276720" y="3048120"/>
            <a:chExt cx="1600200" cy="1295280"/>
          </a:xfrm>
        </p:grpSpPr>
        <p:sp>
          <p:nvSpPr>
            <p:cNvPr id="202" name="Rectangle 29"/>
            <p:cNvSpPr/>
            <p:nvPr/>
          </p:nvSpPr>
          <p:spPr>
            <a:xfrm>
              <a:off x="3276720" y="3962520"/>
              <a:ext cx="1600200" cy="3808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30"/>
            <p:cNvSpPr/>
            <p:nvPr/>
          </p:nvSpPr>
          <p:spPr>
            <a:xfrm>
              <a:off x="3324960" y="3961800"/>
              <a:ext cx="150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statemen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4" name="AutoShape 31"/>
            <p:cNvCxnSpPr>
              <a:stCxn id="197" idx="2"/>
              <a:endCxn id="202" idx="0"/>
            </p:cNvCxnSpPr>
            <p:nvPr/>
          </p:nvCxnSpPr>
          <p:spPr>
            <a:xfrm>
              <a:off x="4076280" y="3048120"/>
              <a:ext cx="1080" cy="91512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  <p:sp>
          <p:nvSpPr>
            <p:cNvPr id="205" name="Text Box 32"/>
            <p:cNvSpPr/>
            <p:nvPr/>
          </p:nvSpPr>
          <p:spPr>
            <a:xfrm>
              <a:off x="4094280" y="3276000"/>
              <a:ext cx="66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 Unicode MS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06" name="AutoShape 42"/>
          <p:cNvCxnSpPr>
            <a:stCxn id="207" idx="2"/>
          </p:cNvCxnSpPr>
          <p:nvPr/>
        </p:nvCxnSpPr>
        <p:spPr>
          <a:xfrm rot="5400000">
            <a:off x="4775760" y="3668400"/>
            <a:ext cx="548640" cy="1869480"/>
          </a:xfrm>
          <a:prstGeom prst="bentConnector2">
            <a:avLst/>
          </a:prstGeom>
          <a:ln w="31680">
            <a:solidFill>
              <a:srgbClr val="ff0000"/>
            </a:solidFill>
            <a:miter/>
          </a:ln>
        </p:spPr>
      </p:cxnSp>
      <p:grpSp>
        <p:nvGrpSpPr>
          <p:cNvPr id="208" name="Group 45"/>
          <p:cNvGrpSpPr/>
          <p:nvPr/>
        </p:nvGrpSpPr>
        <p:grpSpPr>
          <a:xfrm>
            <a:off x="5105520" y="2514600"/>
            <a:ext cx="1676160" cy="1828800"/>
            <a:chOff x="5105520" y="2514600"/>
            <a:chExt cx="1676160" cy="1828800"/>
          </a:xfrm>
        </p:grpSpPr>
        <p:sp>
          <p:nvSpPr>
            <p:cNvPr id="209" name="Text Box 34"/>
            <p:cNvSpPr/>
            <p:nvPr/>
          </p:nvSpPr>
          <p:spPr>
            <a:xfrm>
              <a:off x="5986080" y="3276000"/>
              <a:ext cx="72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 Unicode MS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0" name="AutoShape 35"/>
            <p:cNvCxnSpPr>
              <a:endCxn id="207" idx="0"/>
            </p:cNvCxnSpPr>
            <p:nvPr/>
          </p:nvCxnSpPr>
          <p:spPr>
            <a:xfrm flipH="1" rot="16200000">
              <a:off x="4820400" y="2799360"/>
              <a:ext cx="1448640" cy="878400"/>
            </a:xfrm>
            <a:prstGeom prst="bentConnector3">
              <a:avLst>
                <a:gd name="adj1" fmla="val 0"/>
              </a:avLst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  <p:grpSp>
          <p:nvGrpSpPr>
            <p:cNvPr id="211" name="Group 44"/>
            <p:cNvGrpSpPr/>
            <p:nvPr/>
          </p:nvGrpSpPr>
          <p:grpSpPr>
            <a:xfrm>
              <a:off x="5181480" y="3961800"/>
              <a:ext cx="1600200" cy="381600"/>
              <a:chOff x="5181480" y="3961800"/>
              <a:chExt cx="1600200" cy="381600"/>
            </a:xfrm>
          </p:grpSpPr>
          <p:sp>
            <p:nvSpPr>
              <p:cNvPr id="212" name="Rectangle 38"/>
              <p:cNvSpPr/>
              <p:nvPr/>
            </p:nvSpPr>
            <p:spPr>
              <a:xfrm>
                <a:off x="5181480" y="3962520"/>
                <a:ext cx="1600200" cy="38088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Text Box 39"/>
              <p:cNvSpPr/>
              <p:nvPr/>
            </p:nvSpPr>
            <p:spPr>
              <a:xfrm>
                <a:off x="5230080" y="3961800"/>
                <a:ext cx="1508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Unicode MS"/>
                  </a:rPr>
                  <a:t>statement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Footer Placeholder 20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oin Cl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's look at an example that uses a class that represents a coin that can be flip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nce data is used to indicate which face (heads or tails) is currently sh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CoinFlip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Coin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541240" y="1450800"/>
            <a:ext cx="48852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lean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ing Event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 Boxes and Radio But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1676520" y="153360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5"/>
          <p:cNvSpPr/>
          <p:nvPr/>
        </p:nvSpPr>
        <p:spPr>
          <a:xfrm>
            <a:off x="609480" y="585720"/>
            <a:ext cx="7910640" cy="560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inFlip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n if-else statem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inFl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a Coin object, flips it, and prints the resul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in myCoi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i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in.flip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myCo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yCoin.isHeads(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You win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Better luck next time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609480" y="585720"/>
            <a:ext cx="7910640" cy="560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inFlip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n if-else statem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inFl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a Coin object, flips it, and prints the resul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in myCoi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i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in.flip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myCo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yCoin.isHeads(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You win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Better luck next time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5"/>
          <p:cNvSpPr/>
          <p:nvPr/>
        </p:nvSpPr>
        <p:spPr>
          <a:xfrm>
            <a:off x="2880000" y="457200"/>
            <a:ext cx="3048840" cy="1279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Sample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etter luck next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5"/>
          <p:cNvSpPr/>
          <p:nvPr/>
        </p:nvSpPr>
        <p:spPr>
          <a:xfrm>
            <a:off x="609480" y="762120"/>
            <a:ext cx="7910640" cy="496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in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resents a coin with two sides that can be flipp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final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HEADS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final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ILS =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c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ets up the coin by flipping it initial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in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ip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5"/>
          <p:cNvSpPr/>
          <p:nvPr/>
        </p:nvSpPr>
        <p:spPr>
          <a:xfrm>
            <a:off x="609480" y="963720"/>
            <a:ext cx="7910640" cy="432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Flips the coin by randomly choosing a face valu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ip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ce =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 (Math.random() * 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turns true if the current face of the coin is hea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boolea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sHeads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ace == HEAD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5"/>
          <p:cNvSpPr/>
          <p:nvPr/>
        </p:nvSpPr>
        <p:spPr>
          <a:xfrm>
            <a:off x="609480" y="1241280"/>
            <a:ext cx="7910640" cy="389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turns the current face of the coin as a str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toString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faceN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ace == HEA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ceName = "Heads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ceName = "Tails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ceN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entation Revisi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 that indentation is for the human reader, and is ignored by the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depth &gt;= UPPER_LIM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lta = 1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Reseting Delta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lta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pite what the indentation implies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el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be set to 0 no matter 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7"/>
          <p:cNvSpPr/>
          <p:nvPr/>
        </p:nvSpPr>
        <p:spPr>
          <a:xfrm>
            <a:off x="1523880" y="3124080"/>
            <a:ext cx="1371600" cy="121932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78560 h 1219320"/>
              <a:gd name="textAreaBottom" fmla="*/ 10407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762" y="16478"/>
                </a:moveTo>
                <a:cubicBezTo>
                  <a:pt x="19069" y="14874"/>
                  <a:pt x="19784" y="12869"/>
                  <a:pt x="19784" y="10800"/>
                </a:cubicBezTo>
                <a:cubicBezTo>
                  <a:pt x="19784" y="5838"/>
                  <a:pt x="15761" y="1816"/>
                  <a:pt x="10800" y="1816"/>
                </a:cubicBezTo>
                <a:cubicBezTo>
                  <a:pt x="8730" y="1815"/>
                  <a:pt x="6725" y="2530"/>
                  <a:pt x="5121" y="3837"/>
                </a:cubicBezTo>
                <a:lnTo>
                  <a:pt x="17762" y="16478"/>
                </a:lnTo>
                <a:close/>
                <a:moveTo>
                  <a:pt x="3837" y="5121"/>
                </a:moveTo>
                <a:cubicBezTo>
                  <a:pt x="2530" y="6725"/>
                  <a:pt x="1815" y="8730"/>
                  <a:pt x="1815" y="10799"/>
                </a:cubicBezTo>
                <a:cubicBezTo>
                  <a:pt x="1816" y="15761"/>
                  <a:pt x="5838" y="19784"/>
                  <a:pt x="10800" y="19784"/>
                </a:cubicBezTo>
                <a:cubicBezTo>
                  <a:pt x="12869" y="19784"/>
                  <a:pt x="14874" y="19069"/>
                  <a:pt x="16478" y="17762"/>
                </a:cubicBezTo>
                <a:lnTo>
                  <a:pt x="3837" y="5121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40000"/>
                </a:srgbClr>
              </a:gs>
              <a:gs pos="100000">
                <a:srgbClr val="76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ooter Placeholder 7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ock Stat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statements can be grouped together into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lock statem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mited by br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lock statement can be used wherever a statement is called for in the Java syntax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480680" y="3817800"/>
            <a:ext cx="639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total &gt; MA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ln ("Error!!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rrorCount++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ock Stat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use, or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use, or both, could govern block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Guessing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1405080" y="2223360"/>
            <a:ext cx="65815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total &gt; 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 ("Error!!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rrorCount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 ("Total: " + tot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urrent = total*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ooter Placeholder 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5"/>
          <p:cNvSpPr/>
          <p:nvPr/>
        </p:nvSpPr>
        <p:spPr>
          <a:xfrm>
            <a:off x="609480" y="380880"/>
            <a:ext cx="7910640" cy="538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Guessing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 block statement in an if-el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util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ues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lays a simple guessing game with the us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inal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X = 1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swer, gu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sca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(System.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ndom generator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ndom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swer = generator.nextInt(MAX) +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5"/>
          <p:cNvSpPr/>
          <p:nvPr/>
        </p:nvSpPr>
        <p:spPr>
          <a:xfrm>
            <a:off x="609480" y="1305000"/>
            <a:ext cx="791064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I'm thinking of a number between 1 and 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 MAX + ". Guess what it is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uess = scan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guess == answ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You got it! Good guessing!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hat is not correct, sorry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he number was " + answ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ow of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ess specified otherwise, the order of statement execution through a method is linear: one after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programming statements allow us to make decisions and perform repet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decisions are based 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oolean express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lso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di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hat evaluate to true or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rder of statement execution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low of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5"/>
          <p:cNvSpPr/>
          <p:nvPr/>
        </p:nvSpPr>
        <p:spPr>
          <a:xfrm>
            <a:off x="609480" y="1305000"/>
            <a:ext cx="791064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I'm thinking of a number between 1 and 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 MAX + ". Guess what it is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uess = scan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guess == answ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You got it! Good guessing!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hat is not correct, sorry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he number was " + answ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5"/>
          <p:cNvSpPr/>
          <p:nvPr/>
        </p:nvSpPr>
        <p:spPr>
          <a:xfrm>
            <a:off x="533520" y="1219320"/>
            <a:ext cx="8076960" cy="1522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Sample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'm thinking of a number between 1 and 10. Guess what it is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at is not correct, sor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number was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sted if Stat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ment executed as a result of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use could be anoth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sted if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use is matched to the last unmatch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o matter what the indentation impl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ces can be used to specify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ment to which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use belo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OfThree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609480" y="380880"/>
            <a:ext cx="7910640" cy="58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MinOfThree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nested if statem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util.Scann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inOfTh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ads three integers from the user and determines the small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valu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1, num2, num3, min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sca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(System.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Enter three integers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1 = scan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2 = scan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3 = scan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5"/>
          <p:cNvSpPr/>
          <p:nvPr/>
        </p:nvSpPr>
        <p:spPr>
          <a:xfrm>
            <a:off x="609480" y="1228680"/>
            <a:ext cx="791064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num1 &lt; num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num1 &lt; nu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in = num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in = num3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num2 &lt; nu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in = num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in = num3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Minimum value: " + m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5"/>
          <p:cNvSpPr/>
          <p:nvPr/>
        </p:nvSpPr>
        <p:spPr>
          <a:xfrm>
            <a:off x="609480" y="1228680"/>
            <a:ext cx="791064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num1 &lt; num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num1 &lt; nu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in = num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in = num3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num2 &lt; nu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in = num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in = num3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Minimum value: " + m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5"/>
          <p:cNvSpPr/>
          <p:nvPr/>
        </p:nvSpPr>
        <p:spPr>
          <a:xfrm>
            <a:off x="3602160" y="1066680"/>
            <a:ext cx="2926800" cy="1522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Sample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hree intege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84  69  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inimum value: 6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2541240" y="1450800"/>
            <a:ext cx="48852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lean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ing Event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 Boxes and Radio But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>
            <a:off x="1676520" y="263844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ing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aring data using boolean expressions, it's important to understand the nuances of certain data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's examine some key situ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ng floating point values for e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ng charac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ng strings (alphabetical or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ng object vs. comparing object 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ing Float Val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should rarely use the equality operator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when comparing two floating point values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floating point values are equal only if their underlying binary representations match exa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s often result in slight differences that may be irrelev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any situations, you might consider two floating point numbers to be "close enough" even if they aren't exactly eq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ing Float Val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termine the equality of two floats, use the following techniq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Math.abs(f1 - f2) &lt; TOLER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 ("Essentially equa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difference between the two floating point values is less than the tolerance, they are considered to be eq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olerance could be set to any appropriate level, such as 0.00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ing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e've discussed, Java character data is based on the Unicode character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code establishes a particular numeric value for each character, and therefore an ord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use relational operators on character data based on this ord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the charact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'+'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less than the character '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'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cause it comes before it in the Unicode character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ndix C provides an overview of Uni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ditional Stat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ditional stat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ts us choose which statement will be executed 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sometimes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lection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statements give us the power to make basic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ava conditional statements are th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d if-else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'll explore the switch statement in Chapter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ing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nicode, the digit characters (0-9) are contiguous and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wise, the uppercase letters (A-Z) and lowercase letters (a-z) are contiguous and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2076480" y="3581280"/>
          <a:ext cx="4552920" cy="1828800"/>
        </p:xfrm>
        <a:graphic>
          <a:graphicData uri="http://schemas.openxmlformats.org/drawingml/2006/table">
            <a:tbl>
              <a:tblPr/>
              <a:tblGrid>
                <a:gridCol w="2057400"/>
                <a:gridCol w="2495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ract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code Valu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–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 through 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– 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 through 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– 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 through 1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sh dir="l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ing Str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 that in Java a character string is an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can be called with strings to determine if two strings contain exactly the same characters in the same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returns a boolean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1025640" y="4650480"/>
            <a:ext cx="676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name1.equals(name2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ln ("Same name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ing Str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not use the relational operators to compare st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contain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re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 for determining if one string comes before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all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ame1.compareTo(name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s zero 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ame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ame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equal (contain the same charac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s a negative value 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ame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less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am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s a positive value 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ame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great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am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ing Str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comparing characters and strings is based on a character set, it is called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xicographic ord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876960" y="2829960"/>
            <a:ext cx="7648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result = name1.comareTo(name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result &lt;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 (name1 + "comes firs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result ==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 ("Same name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 (name2 + "comes firs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xicographic Ord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xicographic ordering is not strictly alphabetical when uppercase and lowercase characters are mix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the str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"Great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es before the str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"fantastic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cause all of the uppercase letters come before all of the lowercase letters in Uni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short strings come before longer strings with the same prefix (lexicographical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"book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es befor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"bookcase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ing 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== operator can be applied to objects – it returns true if the two references are aliases of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is defined for all objects, but unless we redefine it when we write a class, it has the same semantics as the ==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has been redefined i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to compare the characters in the two st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you write a class, you can redefin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to return true under whatever conditions are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2541240" y="1450800"/>
            <a:ext cx="48852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lean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ing Event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 Boxes and Radio But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4"/>
          <p:cNvSpPr/>
          <p:nvPr/>
        </p:nvSpPr>
        <p:spPr>
          <a:xfrm>
            <a:off x="1676520" y="317196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etition Stat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tition state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low us to execute a statement multiple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they are referred to 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conditional statements, they are controlled by boolean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has three kinds of repetition statements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ps are discussed in Chapter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while Sta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ile stat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the following synta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 ( </a:t>
            </a:r>
            <a:r>
              <a:rPr b="1" i="1" lang="en-US" sz="2400" spc="-1" strike="noStrike">
                <a:solidFill>
                  <a:srgbClr val="008000"/>
                </a:solidFill>
                <a:latin typeface="Courier New"/>
              </a:rPr>
              <a:t>condi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2400" spc="-1" strike="noStrike">
                <a:solidFill>
                  <a:srgbClr val="008000"/>
                </a:solidFill>
                <a:latin typeface="Courier New"/>
              </a:rPr>
              <a:t>stateme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condi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rue, the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statem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exec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 condition is evaluated again, and if it is still true, the statement is executed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ment is executed repeatedly until the condition becomes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ooter Placeholder 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ic of a while Lo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20"/>
          <p:cNvGrpSpPr/>
          <p:nvPr/>
        </p:nvGrpSpPr>
        <p:grpSpPr>
          <a:xfrm>
            <a:off x="3429000" y="3278160"/>
            <a:ext cx="1600200" cy="1293840"/>
            <a:chOff x="3429000" y="3278160"/>
            <a:chExt cx="1600200" cy="1293840"/>
          </a:xfrm>
        </p:grpSpPr>
        <p:grpSp>
          <p:nvGrpSpPr>
            <p:cNvPr id="306" name="Group 19"/>
            <p:cNvGrpSpPr/>
            <p:nvPr/>
          </p:nvGrpSpPr>
          <p:grpSpPr>
            <a:xfrm>
              <a:off x="3429000" y="4190040"/>
              <a:ext cx="1600200" cy="381960"/>
              <a:chOff x="3429000" y="4190040"/>
              <a:chExt cx="1600200" cy="381960"/>
            </a:xfrm>
          </p:grpSpPr>
          <p:sp>
            <p:nvSpPr>
              <p:cNvPr id="307" name="Rectangle 5"/>
              <p:cNvSpPr/>
              <p:nvPr/>
            </p:nvSpPr>
            <p:spPr>
              <a:xfrm>
                <a:off x="3429000" y="4190760"/>
                <a:ext cx="1600200" cy="38124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Text Box 6"/>
              <p:cNvSpPr/>
              <p:nvPr/>
            </p:nvSpPr>
            <p:spPr>
              <a:xfrm>
                <a:off x="3541680" y="4190040"/>
                <a:ext cx="1377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Unicode MS"/>
                  </a:rPr>
                  <a:t>statemen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09" name="AutoShape 7"/>
            <p:cNvCxnSpPr>
              <a:stCxn id="310" idx="2"/>
              <a:endCxn id="307" idx="0"/>
            </p:cNvCxnSpPr>
            <p:nvPr/>
          </p:nvCxnSpPr>
          <p:spPr>
            <a:xfrm flipH="1">
              <a:off x="4226760" y="3278160"/>
              <a:ext cx="2520" cy="91512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  <p:sp>
          <p:nvSpPr>
            <p:cNvPr id="311" name="Text Box 8"/>
            <p:cNvSpPr/>
            <p:nvPr/>
          </p:nvSpPr>
          <p:spPr>
            <a:xfrm>
              <a:off x="4246560" y="3504240"/>
              <a:ext cx="66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 Unicode MS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12" name="AutoShape 9"/>
          <p:cNvCxnSpPr/>
          <p:nvPr/>
        </p:nvCxnSpPr>
        <p:spPr>
          <a:xfrm rot="10800000">
            <a:off x="3199680" y="2742480"/>
            <a:ext cx="229320" cy="1639080"/>
          </a:xfrm>
          <a:prstGeom prst="bentConnector3">
            <a:avLst>
              <a:gd name="adj1" fmla="val 200000"/>
            </a:avLst>
          </a:prstGeom>
          <a:ln w="31680">
            <a:solidFill>
              <a:srgbClr val="ff0000"/>
            </a:solidFill>
            <a:miter/>
            <a:tailEnd len="med" type="triangle" w="lg"/>
          </a:ln>
        </p:spPr>
      </p:cxnSp>
      <p:grpSp>
        <p:nvGrpSpPr>
          <p:cNvPr id="313" name="Group 15"/>
          <p:cNvGrpSpPr/>
          <p:nvPr/>
        </p:nvGrpSpPr>
        <p:grpSpPr>
          <a:xfrm>
            <a:off x="4172760" y="2743200"/>
            <a:ext cx="2317320" cy="2590920"/>
            <a:chOff x="4172760" y="2743200"/>
            <a:chExt cx="2317320" cy="2590920"/>
          </a:xfrm>
        </p:grpSpPr>
        <p:cxnSp>
          <p:nvCxnSpPr>
            <p:cNvPr id="314" name="AutoShape 16"/>
            <p:cNvCxnSpPr>
              <a:stCxn id="310" idx="3"/>
            </p:cNvCxnSpPr>
            <p:nvPr/>
          </p:nvCxnSpPr>
          <p:spPr>
            <a:xfrm flipH="1">
              <a:off x="4172760" y="2743200"/>
              <a:ext cx="1013400" cy="2591280"/>
            </a:xfrm>
            <a:prstGeom prst="bentConnector4">
              <a:avLst>
                <a:gd name="adj1" fmla="val -22565"/>
                <a:gd name="adj2" fmla="val 83451"/>
              </a:avLst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  <p:sp>
          <p:nvSpPr>
            <p:cNvPr id="315" name="Text Box 17"/>
            <p:cNvSpPr/>
            <p:nvPr/>
          </p:nvSpPr>
          <p:spPr>
            <a:xfrm>
              <a:off x="5762160" y="3301560"/>
              <a:ext cx="72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 Unicode MS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21"/>
          <p:cNvGrpSpPr/>
          <p:nvPr/>
        </p:nvGrpSpPr>
        <p:grpSpPr>
          <a:xfrm>
            <a:off x="3200400" y="1523520"/>
            <a:ext cx="2057400" cy="1752840"/>
            <a:chOff x="3200400" y="1523520"/>
            <a:chExt cx="2057400" cy="1752840"/>
          </a:xfrm>
        </p:grpSpPr>
        <p:cxnSp>
          <p:nvCxnSpPr>
            <p:cNvPr id="317" name="AutoShape 14"/>
            <p:cNvCxnSpPr>
              <a:endCxn id="310" idx="0"/>
            </p:cNvCxnSpPr>
            <p:nvPr/>
          </p:nvCxnSpPr>
          <p:spPr>
            <a:xfrm>
              <a:off x="4228920" y="1523520"/>
              <a:ext cx="1080" cy="68652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  <p:grpSp>
          <p:nvGrpSpPr>
            <p:cNvPr id="318" name="Group 18"/>
            <p:cNvGrpSpPr/>
            <p:nvPr/>
          </p:nvGrpSpPr>
          <p:grpSpPr>
            <a:xfrm>
              <a:off x="3200400" y="2209680"/>
              <a:ext cx="2057400" cy="1066680"/>
              <a:chOff x="3200400" y="2209680"/>
              <a:chExt cx="2057400" cy="1066680"/>
            </a:xfrm>
          </p:grpSpPr>
          <p:sp>
            <p:nvSpPr>
              <p:cNvPr id="310" name="AutoShape 12"/>
              <p:cNvSpPr/>
              <p:nvPr/>
            </p:nvSpPr>
            <p:spPr>
              <a:xfrm>
                <a:off x="3200400" y="2209680"/>
                <a:ext cx="2057400" cy="1066680"/>
              </a:xfrm>
              <a:prstGeom prst="diamond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Text Box 13"/>
              <p:cNvSpPr/>
              <p:nvPr/>
            </p:nvSpPr>
            <p:spPr>
              <a:xfrm>
                <a:off x="3568320" y="2421720"/>
                <a:ext cx="1323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Unicode MS"/>
                  </a:rPr>
                  <a:t>condi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Unicode MS"/>
                  </a:rPr>
                  <a:t>evaluate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0" name="Footer Placeholder 18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olean Expre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ndition often uses one of Java'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quality operator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lational opera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all return boolean 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171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equal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171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!=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 equal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171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less t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171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greater t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171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=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less than or equal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2171880" indent="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=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greater than or equal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e difference between the equality operator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nd the assignment operator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while Sta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ample of a while state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condition of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op is false initially, the statement is never exec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the body of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op will execute zero or more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1782000" y="1762200"/>
            <a:ext cx="5667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count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 (count &lt;=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ln (coun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ooter Placeholder 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ntinel Val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's look at some examples of loop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oop can be used to maintain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unning 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ntinel val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pecial input value that represents the end of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Average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5"/>
          <p:cNvSpPr/>
          <p:nvPr/>
        </p:nvSpPr>
        <p:spPr>
          <a:xfrm>
            <a:off x="547560" y="306360"/>
            <a:ext cx="7910640" cy="602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Average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 while loop, a sentinel value, and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unning su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text.DecimalForma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util.Scann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mputes the average of a set of values entered by the us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The running sum is printed as the numbers are enter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= 0, value, count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dou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sca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(System.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Enter an integer (0 to quit)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scan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5"/>
          <p:cNvSpPr/>
          <p:nvPr/>
        </p:nvSpPr>
        <p:spPr>
          <a:xfrm>
            <a:off x="609480" y="1523880"/>
            <a:ext cx="7910640" cy="325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whi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value != 0)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ntinel value of 0 to terminate 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+= val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he sum so far is " + su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Enter an integer (0 to quit)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scan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5"/>
          <p:cNvSpPr/>
          <p:nvPr/>
        </p:nvSpPr>
        <p:spPr>
          <a:xfrm>
            <a:off x="609480" y="1523880"/>
            <a:ext cx="7910640" cy="347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count == 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No values were entered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=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doubl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sum / 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cimalFormat fmt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cimalFormat ("0.###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he average is " + fmt.format(average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5"/>
          <p:cNvSpPr/>
          <p:nvPr/>
        </p:nvSpPr>
        <p:spPr>
          <a:xfrm>
            <a:off x="609480" y="1523880"/>
            <a:ext cx="7910640" cy="347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count == 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No values were entered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=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doubl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sum / 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cimalFormat fmt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cimalFormat ("0.###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he average is " + fmt.format(average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5"/>
          <p:cNvSpPr/>
          <p:nvPr/>
        </p:nvSpPr>
        <p:spPr>
          <a:xfrm>
            <a:off x="2446920" y="1295280"/>
            <a:ext cx="4389840" cy="4443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Sample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 (0 to quit)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um so far is 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 (0 to quit)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1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um so far is 1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 (0 to quit)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-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um so far is 1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 (0 to quit)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um so far is 25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 (0 to quit)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um so far is 27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 (0 to quit)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-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um so far is 2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 (0 to quit)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average is 39.3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put Vali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oop can also be used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put val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making a program mo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ob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's generally a good idea to verify that input is valid (in whatever sense) when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WinPercentage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5"/>
          <p:cNvSpPr/>
          <p:nvPr/>
        </p:nvSpPr>
        <p:spPr>
          <a:xfrm>
            <a:off x="547560" y="306360"/>
            <a:ext cx="7910640" cy="602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WinPercentage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 while loop for input valid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text.NumberForma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util.Scann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inPercen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mputes the percentage of games won by a tea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inal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_GAMES = 1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dou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ti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sca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(System.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Enter the number of games won (0 to 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 NUM_GAMES + ")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on = scan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5"/>
          <p:cNvSpPr/>
          <p:nvPr/>
        </p:nvSpPr>
        <p:spPr>
          <a:xfrm>
            <a:off x="547560" y="1380960"/>
            <a:ext cx="791064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whi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on &lt; 0 || won &gt; NUM_GAM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Invalid input. Please reenter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on = scan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tio =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doubl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won / NUM_GA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Format fmt = NumberFormat.getPercentInstanc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Winning percentage: " + fmt.format(ratio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5"/>
          <p:cNvSpPr/>
          <p:nvPr/>
        </p:nvSpPr>
        <p:spPr>
          <a:xfrm>
            <a:off x="547560" y="1380960"/>
            <a:ext cx="791064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whi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on &lt; 0 || won &gt; NUM_GAM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Invalid input. Please reenter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on = scan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tio =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doubl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won / NUM_GA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Format fmt = NumberFormat.getPercentInstanc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Winning percentage: " + fmt.format(ratio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5"/>
          <p:cNvSpPr/>
          <p:nvPr/>
        </p:nvSpPr>
        <p:spPr>
          <a:xfrm>
            <a:off x="1856520" y="1143000"/>
            <a:ext cx="5608800" cy="2009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Sample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he number of games won (0 to 12)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valid input. Please reenter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valid input. Please reenter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inning percentage: 5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olean Expre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 with its boolean cond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sum &gt; MA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lta = sum – MA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, the condition is evaluated: the valu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either greater than the valu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r it is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condition is true, the assignment statement is executed; if it isn't, it is skip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Age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inite Loo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dy of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op eventually must make the condition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t, it is called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finite loo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will execute until the user interrupts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common logical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should always double check the logic of a program to ensure that your loops will terminate norm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inite Loo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ample of an infinite loo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oop will continue executing until interrupted (Control-C) or until an underflow error occ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1782000" y="1857600"/>
            <a:ext cx="5667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count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 (count &lt;= 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ln (coun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unt = count -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ooter Placeholder 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sted Loo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nest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ments, loops can be nested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is, the body of a loop can contain another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iteration of the outer loop, the inner loop iterates comple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PalindromeTester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5"/>
          <p:cNvSpPr/>
          <p:nvPr/>
        </p:nvSpPr>
        <p:spPr>
          <a:xfrm>
            <a:off x="547560" y="181080"/>
            <a:ext cx="7910640" cy="645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alindromeTester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nested while loop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util.Scann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lindromeTe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Tests strings to see if they are palindrom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str, another = "y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eft, righ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sca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(System.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whi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another.equalsIgnoreCase("y"))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llows y or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Enter a potential palindrome: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 = scan.nextLin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eft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ight = str.length() -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5"/>
          <p:cNvSpPr/>
          <p:nvPr/>
        </p:nvSpPr>
        <p:spPr>
          <a:xfrm>
            <a:off x="547560" y="838080"/>
            <a:ext cx="7910640" cy="475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whi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str.charAt(left) == str.charAt(right) &amp;&amp; left &lt; 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eft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ight--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left &lt; 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hat string is NOT a palindrome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hat string IS a palindrome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Test another palindrome (y/n)?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other = scan.nextLin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5"/>
          <p:cNvSpPr/>
          <p:nvPr/>
        </p:nvSpPr>
        <p:spPr>
          <a:xfrm>
            <a:off x="547560" y="838080"/>
            <a:ext cx="7910640" cy="475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whi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str.charAt(left) == str.charAt(right) &amp;&amp; left &lt; 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eft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ight--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left &lt; 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hat string is NOT a palindrome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hat string IS a palindrome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Test another palindrome (y/n)?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other = scan.nextLin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5"/>
          <p:cNvSpPr/>
          <p:nvPr/>
        </p:nvSpPr>
        <p:spPr>
          <a:xfrm>
            <a:off x="2311560" y="685800"/>
            <a:ext cx="4268160" cy="5173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Sample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potential palindro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rad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at string IS a palindro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 another palindrome (y/n)?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potential palindro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able was I ere I saw el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at string IS a palindro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 another palindrome (y/n)?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potential palindro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abracadab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at string is NOT a palindro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 another palindrome (y/n)?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5"/>
          <p:cNvSpPr/>
          <p:nvPr/>
        </p:nvSpPr>
        <p:spPr>
          <a:xfrm>
            <a:off x="304920" y="106668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times will the string "Here" be prin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6"/>
          <p:cNvSpPr/>
          <p:nvPr/>
        </p:nvSpPr>
        <p:spPr>
          <a:xfrm>
            <a:off x="947160" y="1905120"/>
            <a:ext cx="6398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unt1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 (count1 &lt;= 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unt2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 (count2 &lt;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ln ("Here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unt2++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unt1++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5"/>
          <p:cNvSpPr/>
          <p:nvPr/>
        </p:nvSpPr>
        <p:spPr>
          <a:xfrm>
            <a:off x="304920" y="106668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times will the string "Here" be prin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6"/>
          <p:cNvSpPr/>
          <p:nvPr/>
        </p:nvSpPr>
        <p:spPr>
          <a:xfrm>
            <a:off x="947160" y="1905120"/>
            <a:ext cx="6398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unt1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 (count1 &lt;= 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unt2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 (count2 &lt;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.out.println ("Here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unt2++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unt1++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5877720" y="2819520"/>
            <a:ext cx="20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10 * 19 = 1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"/>
          <p:cNvSpPr/>
          <p:nvPr/>
        </p:nvSpPr>
        <p:spPr>
          <a:xfrm>
            <a:off x="2541240" y="1450800"/>
            <a:ext cx="48852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lean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ing Event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 Boxes and Radio But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4"/>
          <p:cNvSpPr/>
          <p:nvPr/>
        </p:nvSpPr>
        <p:spPr>
          <a:xfrm>
            <a:off x="1676520" y="37339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ter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object that allows you to process a collection of items one at a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lets you step through each item in turn and process it a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terator has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hasNex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that returns true if there is at least one more item to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returns the next i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tor objects are defined us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erface, which is discussed further in Chapter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609480" y="711360"/>
            <a:ext cx="7910640" cy="517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Age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n if statem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util.Scann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ads the user's age and prints comments according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inal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INOR = 2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sca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(System.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Enter your age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= scan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lasses in the Java standard class library are it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is an it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N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 returns true if there is more data to be sc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 returns the next scanned token as a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also has variations o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hasNex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for specific data types (such a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hasNext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act that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iterator is particularly helpful when reading input from a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we wanted to read and process a list of URLs stored in a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scanner can be set up to read each line of the input until the end of the file is encount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scanner can be set up for each URL to process each part of the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URLDissector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5"/>
          <p:cNvSpPr/>
          <p:nvPr/>
        </p:nvSpPr>
        <p:spPr>
          <a:xfrm>
            <a:off x="547560" y="635040"/>
            <a:ext cx="7910640" cy="517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URLDissector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Scanner to read file input and parse 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using alternative delimit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util.Scann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io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RLDiss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ads urls from a file and prints their path compon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 throws IOExce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ur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fileScan, urlSca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Sca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("urls.inp"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5"/>
          <p:cNvSpPr/>
          <p:nvPr/>
        </p:nvSpPr>
        <p:spPr>
          <a:xfrm>
            <a:off x="547560" y="1116000"/>
            <a:ext cx="7910640" cy="432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ad and process each line of th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whi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leScan.hasNext(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rl = fileScan.nextLin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URL: " + ur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rlSca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(ur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rlScan.useDelimiter("/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int each part of the u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whi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urlScan.hasNext(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   " + urlScan.next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5"/>
          <p:cNvSpPr/>
          <p:nvPr/>
        </p:nvSpPr>
        <p:spPr>
          <a:xfrm>
            <a:off x="547560" y="1116000"/>
            <a:ext cx="7910640" cy="432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ad and process each line of th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whi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leScan.hasNext(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rl = fileScan.nextLin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URL: " + ur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rlSca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(ur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rlScan.useDelimiter("/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int each part of the u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whi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urlScan.hasNext(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   " + urlScan.next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5"/>
          <p:cNvSpPr/>
          <p:nvPr/>
        </p:nvSpPr>
        <p:spPr>
          <a:xfrm>
            <a:off x="2005560" y="447840"/>
            <a:ext cx="4999320" cy="5659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Sample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URL: www.google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ww.google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URL: www.linux.org/info/gnu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ww.linux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nu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URL: thelyric.com/calendar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elyr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alend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URL: www.cs.vt.edu/undergraduate/ab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ww.cs.vt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undergradu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b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URL: youtube.com/watch?v=EHCRimwRG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youtube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atch?v=EHCRimwRG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2541240" y="1450800"/>
            <a:ext cx="48852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lean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ing Event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 Boxes and Radio But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1676520" y="427680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ArrayList Cl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L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stores a list of objects, and is often processed using a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is part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reference each object in the list using a numeric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 grows and shrinks as needed, adjusting its capacity as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ArrayList Cl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x values of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L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 at 0 (not 1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Bashful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Sleepy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Happy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Dopey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Doc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s can be inserted and rem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dexes of the elements adjust according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rayList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4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L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add (E ob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add (int index, E ob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 remove (int inde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bject get (int inde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isEmpty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iz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ArrayList Cl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ype of object stored in the list is established whe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Li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is crea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List&lt;String&gt; names = new ArrayList&lt;String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List&lt;Book&gt; list = new ArrayList&lt;Book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akes use of Jav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ener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provide additional type checking at compil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L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cannot store primitive types, but that's what wrapper classes are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Beatles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609480" y="1835280"/>
            <a:ext cx="7910640" cy="240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You entered: " + ag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age &lt; MIN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Youth is a wonderful thing. Enjoy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ge is a state of mind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5"/>
          <p:cNvSpPr/>
          <p:nvPr/>
        </p:nvSpPr>
        <p:spPr>
          <a:xfrm>
            <a:off x="547560" y="635040"/>
            <a:ext cx="7910640" cy="517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Beatles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 ArrayList ob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util.ArrayLis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eat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tores and modifies a list of band memb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List&lt;String&gt; band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List&lt;String&gt;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nd.add ("Paul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nd.add ("Pete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nd.add ("John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nd.add ("George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5"/>
          <p:cNvSpPr/>
          <p:nvPr/>
        </p:nvSpPr>
        <p:spPr>
          <a:xfrm>
            <a:off x="547560" y="1116000"/>
            <a:ext cx="7910640" cy="432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ban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tion = band.indexOf ("Pete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nd.remove (locatio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ban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t index 1: " + band.get(1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nd.add (2, "Ringo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Size of the band: " + band.siz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whi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index &lt; band.size(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band.get(index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5"/>
          <p:cNvSpPr/>
          <p:nvPr/>
        </p:nvSpPr>
        <p:spPr>
          <a:xfrm>
            <a:off x="547560" y="1116000"/>
            <a:ext cx="7910640" cy="432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ban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tion = band.indexOf ("Pete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nd.remove (locatio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ban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t index 1: " + band.get(1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nd.add (2, "Ringo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Size of the band: " + band.siz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whi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index &lt; band.size(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band.get(index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5"/>
          <p:cNvSpPr/>
          <p:nvPr/>
        </p:nvSpPr>
        <p:spPr>
          <a:xfrm>
            <a:off x="2619000" y="1039680"/>
            <a:ext cx="3536280" cy="2739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Paul, Pete, John, Georg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[Paul, John, Georg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t index 1: Joh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 of the band: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in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eo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2541240" y="1450800"/>
            <a:ext cx="48852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lean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Li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ing Event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 Boxes and Radio But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4"/>
          <p:cNvSpPr/>
          <p:nvPr/>
        </p:nvSpPr>
        <p:spPr>
          <a:xfrm>
            <a:off x="1676520" y="482904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ing Event 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at interactive GUIs require establishing a relationship between components and the listeners that respond to component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listener object can be used to listen to two different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urce of the event can be determined by us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etSou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of the event passed to the lis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LeftRight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LeftRightPanel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5"/>
          <p:cNvSpPr/>
          <p:nvPr/>
        </p:nvSpPr>
        <p:spPr>
          <a:xfrm>
            <a:off x="547560" y="635040"/>
            <a:ext cx="7910640" cy="538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LeftRight.java       Authors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one listener for multiple butt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Fr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eft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the main program fr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fra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("Left Right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DefaultCloseOperation (JFrame.EXIT_ON_CLO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eftRightPanel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5"/>
          <p:cNvSpPr/>
          <p:nvPr/>
        </p:nvSpPr>
        <p:spPr>
          <a:xfrm>
            <a:off x="547560" y="635040"/>
            <a:ext cx="7910640" cy="538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LeftRight.java       Authors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one listener for multiple butt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Fr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eft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the main program fr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fra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("Left Right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DefaultCloseOperation (JFrame.EXIT_ON_CLO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eftRightPanel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5"/>
          <p:cNvGrpSpPr/>
          <p:nvPr/>
        </p:nvGrpSpPr>
        <p:grpSpPr>
          <a:xfrm>
            <a:off x="3048120" y="533520"/>
            <a:ext cx="2971800" cy="1752480"/>
            <a:chOff x="3048120" y="533520"/>
            <a:chExt cx="2971800" cy="1752480"/>
          </a:xfrm>
        </p:grpSpPr>
        <p:sp>
          <p:nvSpPr>
            <p:cNvPr id="428" name="TextBox 5"/>
            <p:cNvSpPr/>
            <p:nvPr/>
          </p:nvSpPr>
          <p:spPr>
            <a:xfrm>
              <a:off x="3048120" y="533520"/>
              <a:ext cx="2971800" cy="17524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9" name="Picture 4" descr="LeftRight.png"/>
            <p:cNvPicPr/>
            <p:nvPr/>
          </p:nvPicPr>
          <p:blipFill>
            <a:blip r:embed="rId1"/>
            <a:stretch/>
          </p:blipFill>
          <p:spPr>
            <a:xfrm>
              <a:off x="3276720" y="762120"/>
              <a:ext cx="2527560" cy="1295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5"/>
          <p:cNvSpPr/>
          <p:nvPr/>
        </p:nvSpPr>
        <p:spPr>
          <a:xfrm>
            <a:off x="547560" y="1089000"/>
            <a:ext cx="7910640" cy="389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LeftRightPanel.java       Authors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one listener for multiple butt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even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eftRightPanel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xtend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left, righ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labe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 buttonPane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5"/>
          <p:cNvSpPr/>
          <p:nvPr/>
        </p:nvSpPr>
        <p:spPr>
          <a:xfrm>
            <a:off x="547560" y="181080"/>
            <a:ext cx="7910640" cy="645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nstructor: Sets up the GU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eftRightPanel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eft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Left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ight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Right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uttonListener listener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uttonListene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eft.addActionListener (listen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ight.addActionListener (listen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bel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("Push a button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uttonPanel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uttonPanel.setPreferredSize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mension(200, 40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uttonPanel.setBackground (Color.blu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uttonPanel.add (lef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uttonPanel.add (righ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PreferredSize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mension(200, 80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Background (Color.cya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labe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uttonPane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5"/>
          <p:cNvSpPr/>
          <p:nvPr/>
        </p:nvSpPr>
        <p:spPr>
          <a:xfrm>
            <a:off x="547560" y="1089000"/>
            <a:ext cx="791064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resents a listener for both butt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uttonListener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l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tionListe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termines which button was pressed and sets the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text according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tionPerformed (ActionEvent ev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event.getSource() == 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bel.setText("Left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bel.setText("Right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6:32:29Z</dcterms:created>
  <dc:creator>usnidem</dc:creator>
  <dc:description/>
  <dc:language>en-US</dc:language>
  <cp:lastModifiedBy>Noreen Elliott</cp:lastModifiedBy>
  <dcterms:modified xsi:type="dcterms:W3CDTF">2013-08-12T20:17:57Z</dcterms:modified>
  <cp:revision>24</cp:revision>
  <dc:subject/>
  <dc:title>Chapter #, Title</dc:title>
</cp:coreProperties>
</file>